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23C-0559-4472-859B-70F68218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C16-4216-4201-B3FF-30600943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B3F-1F47-41A3-8AFF-8EF5613B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1B2-AF78-4CA8-95A9-BB3FEF08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137A-D23C-4304-8ECF-063B9812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019-9A85-45C4-832B-6F80C9D7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7E4-5D3B-478C-A78A-1610BB2B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BE9-9AC9-4809-B705-9770D161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A84-C5CF-47F4-98E1-E1EB7AB0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35C-7AF8-48D3-8A31-C0C19319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831-26E6-4EFB-A1C0-7ABF20A8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C9F-E448-45E1-B2DF-4B5F8749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E9A7-29F5-4926-A682-38C6AF855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5e9e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ihann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1711440" cy="2565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07160" y="0"/>
            <a:ext cx="1536840" cy="1916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0"/>
            <a:ext cx="460692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IOGRAPHY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2707920"/>
            <a:ext cx="428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oper Black"/>
              </a:rPr>
              <a:t>Robyn Rihanna Fenty was born on February, 20, 1988 in St. Micha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oper Black"/>
              </a:rPr>
              <a:t>Her music is influenced byf Reggae, R&amp;B, Dancehall and pop. She is very famous thanks her albums:  “Don't Stop The Music”  and “Umbrella".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57680" y="836640"/>
            <a:ext cx="4486320" cy="6021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8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3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0560" cy="609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87840" y="0"/>
            <a:ext cx="4556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oper Black"/>
              </a:rPr>
              <a:t>When she was at Primary school, she formed a trio with two of her frie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oper Black"/>
              </a:rPr>
              <a:t>At the age of 15, Rihanna received her great opport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oper Black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oper Black"/>
              </a:rPr>
              <a:t>Artists she has worked with: </a:t>
            </a:r>
            <a:r>
              <a:rPr b="0" lang="en-US" sz="2400" spc="-1" strike="noStrike">
                <a:solidFill>
                  <a:srgbClr val="0000ff"/>
                </a:solidFill>
                <a:latin typeface="Cooper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oper Black"/>
              </a:rPr>
              <a:t>Bey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oper Black"/>
              </a:rPr>
              <a:t>Jay-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oper Black"/>
              </a:rPr>
              <a:t>Mariah Ca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oper Black"/>
              </a:rPr>
              <a:t>Chris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oper Black"/>
              </a:rPr>
              <a:t>Timba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oper Black"/>
              </a:rPr>
              <a:t>David Bis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564000" y="2394000"/>
            <a:ext cx="5580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3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9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5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8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Bradley Hand ITC"/>
              </a:rPr>
              <a:t>B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Bradley Hand ITC"/>
              </a:rPr>
              <a:t>Mónica Poz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334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8:08:03Z</dcterms:created>
  <dc:creator>Alumno49</dc:creator>
  <dc:description/>
  <dc:language>en-US</dc:language>
  <cp:lastModifiedBy>Alumno49</cp:lastModifiedBy>
  <dcterms:modified xsi:type="dcterms:W3CDTF">2008-06-04T08:13:51Z</dcterms:modified>
  <cp:revision>5</cp:revision>
  <dc:subject/>
  <dc:title>Diapositiva 1</dc:title>
</cp:coreProperties>
</file>